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8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move the slid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40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470A1E4-0F07-4566-8F2B-1E045046CF9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754FB8-5667-41AA-A5AD-BC5CEC742818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3640"/>
          </a:xfrm>
          <a:prstGeom prst="rect">
            <a:avLst/>
          </a:prstGeom>
          <a:ln w="0">
            <a:noFill/>
          </a:ln>
        </p:spPr>
      </p:sp>
      <p:sp>
        <p:nvSpPr>
          <p:cNvPr id="733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04974D6-928C-4C6F-9188-3D84191F296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413338-9320-4F2E-BCC6-69A6DE2CC334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13F5F5-CF5B-4CD2-AE44-FF8219FF120B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3621D4B-1A54-4339-9D1F-4C547DEE6B08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B72B08-383F-4B87-B2AC-51C47D0865F5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06440" y="5075280"/>
            <a:ext cx="6495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39D6D0-DEF2-41CA-8531-B56D87276799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A179B5-0C7C-4281-BFFE-0E6F937062BB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45C410-5A9E-45B5-804C-190FD5EC3308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5ED16D-9051-47DE-B324-BC4D9B7A5E42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FB716D7-59D2-4B08-9BC2-13BC304CEC6B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4635C9-44B6-4F9C-A669-9BAEBB86F400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5805829-2C31-4EA8-83D4-C0EC0EC65007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D30FBB6-484F-41D9-81C0-AA75AE7B8924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BAEB9C4-891E-404F-8FAC-6F811AC46223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5D440B8-B5F7-4EDB-BC0E-9EFEAD44692C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5134DAF-4894-40AB-9C9F-DA919C8D929A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2755792-FC59-4BFB-8F79-493CD178E016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97DD60B-08E9-4B12-A80B-3A2FB6F7B6ED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4F431E2-18A7-4C51-B666-D522187FAB2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13DB63B-0B6A-41AB-9481-AA48C71CB940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C698279-9524-4133-B438-8403B2A4E8D9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32FFE0A-C4F1-4216-A3D8-BD6C7841FF4F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FD4B61-AFDF-48EE-8D61-EE9F083D7B09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16040" y="4875120"/>
            <a:ext cx="5516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46D-052B-4035-835A-57391892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B2A-B8D1-4B81-B087-E2E3A8C3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0A12-C4A9-456B-96F2-FF62819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0C0E5-0085-4766-939A-8AE3A41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6D7C4-A3C6-46F0-9BCF-8836D93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418F1-1030-463C-BCC9-C4AD590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30788-18F7-4109-A826-DA6D920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03A20-975A-4636-B5FB-BEF52C5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9850-91CE-45F0-951A-32204E62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96B61-87AD-4A4C-91A2-88D69E0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01F04-B9C2-46ED-BA2A-50903958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6748D-C0E1-44D2-8395-62213A40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795-4435-4E23-BA5D-3C3C69E5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18A5-1ACC-4952-9503-BA17A61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84685-5CBB-4B1C-89D4-9044398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92C8E-A1B4-4567-ABA1-935D253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2F5B-DA65-46FD-B58D-BBD6B86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198B0-3431-4A49-96FA-2D4EB22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CBA38-150B-4E7B-B39C-FD03352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A3EDD-FCDB-4409-8B87-8BFB62F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2FC50-9681-4C5C-B10D-297577A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C07C2-A367-425E-B1E8-F4C29DFC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B34E-6DCA-4C60-9689-FB92F7C3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D98-3476-4AA5-B06B-563963DF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1525-2E84-4277-BF0E-1588D2FD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CDFC6-B364-45A7-B2A0-5E8994C5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1852C-E479-4813-BA70-4C4E95F3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516D0-C7D2-4ABD-9B9E-9259840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8ED89-97AF-4C19-9BE0-61CDB590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E012-04D0-4075-9CB9-42EAA66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8042-0C9C-4E6D-A7AF-F62251E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6A0E2-FD75-4048-B47F-9D57F32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C17CF-573A-432F-AD45-1AA1161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301CF-D48C-4ADE-BAB2-D7E390A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A33-0518-472C-AB69-0F99585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7C58A-49DE-49C6-BC83-CD1A734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4DD83-254E-43BD-9F32-4D6CAAEB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0587-6B77-4934-9BBD-B30CECFB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C555C-3944-435D-A95B-236E102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5D1A7-30B2-4723-AE96-6F935A7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D42FA-E336-4611-92C8-021E900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8733D-93AE-42A1-BB2D-EDA5099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ADC22-1E3C-4D80-BB89-6EA0E6A8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ADE46-298D-4022-87BB-F0376CE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29CAE-45E2-4794-9309-3C6E8C2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86B7-C1AB-432E-8912-6BA3A8FB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11FD-A9C4-41BC-B195-B6EE053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A3C31-6D3F-4EC7-AE48-75F6AEB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47236-EC7C-49FC-8859-CB5D8660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D5329-BBBE-4D77-B9F6-DD2738A7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6396F-891E-48C2-9189-79A1E11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6B6A2C-03C8-4A2F-BE12-40AFE49FA49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6329C7-51D5-494A-B83A-2DBA4CD19F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697D1D-670E-425F-B66C-920890B1629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1DCE0E-6572-486F-B1BD-70BB0C7D74D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641122-E774-47F2-8E5C-E90BA1121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0EC8-6623-4C90-911B-2E217E0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B68BCB-E653-4A51-A1C2-E8A97FDFD2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1EA55A-4B57-4F91-9F5B-700008C488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3478AD-AB53-465C-84D0-DA1AEAB03F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7D96E9-6AB9-47DE-BDEA-F85C2B344F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A4941F-F855-42F5-BDDA-443CA2B3B6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9F36F4-B960-48F3-B418-94866832A5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1F6E4B-FF3C-4F86-BCD2-1BD96B7C51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7F5E-405D-41ED-B628-EAFDBF3F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CA6-52E6-48F5-B50D-E367883E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C6FC-324B-45C8-A2A9-FF2D38A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2F8C-A3F5-4C5F-93FF-0CBE7CD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485-7E80-49DD-B0B7-3E2A584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01E-9AEA-41D4-BBB5-4DF4E30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FF25-4378-4E87-A669-E7861CD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4854-7AD2-49BC-8582-6BD6D729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5E99-FCFA-42B6-B22B-27DA375B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0ED1-5101-4680-BA32-7D1A6E0A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FE13-FC00-49F6-93AF-495AD722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3680-0F3A-4431-8F75-5FE3FA95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3BC5-E607-4393-8DEA-9B3F5BE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BDAB-D31D-4884-927B-2323BE9B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A62E-EC5A-4C0A-A55E-B31E607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9CA-7B39-4DF4-AD84-0A14B9DA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8B8A-076B-407C-A781-D0CC47E7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5613-08A9-473C-BA84-7257CA0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C91A-808D-4D30-A070-6170D48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5317-13B9-44E7-B33A-6A2E963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CA83-F9DE-4B06-A603-A74EF321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EEBF-7921-4D07-B915-C5B0A6C0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F6FD-71BB-4B95-8F2C-84576FF9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C404-1955-4851-85E0-95266ECC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7D7F-6F15-4A6F-965D-7F2DB9E4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4B73-2304-42D6-9C68-936CAAB4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D9F-2CB4-4D95-B2E8-9FADE080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9435-6CD3-48B7-B7FE-C701A52A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F348-266A-47D0-8159-DB090304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5BEB-AF5F-4353-93BD-CEF0868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9121-85E3-4515-BA98-1DFEAB0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1A5D-8506-4606-AB88-E4D89C4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DD5D-5187-4DBA-AC55-D419CC8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1D83-55DA-44C7-B407-8D49E07D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EF70-5E2A-458F-B2BD-F570C414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13FD-A2FF-4A17-8760-7E59B433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AD2C-6770-4EC0-BB4D-2B402392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E8A-73CA-4D95-A55C-4E167954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DF84-AD84-470D-9A69-A893C840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9A3C-E2E8-4E10-96C0-9F45C19C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AD9B-8FE7-4D64-9110-5688DAA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219F-8B7C-4390-83C3-0D3F5188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E986-B38C-4AE4-9D1F-25946FC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149A-3520-4C8E-AFAE-07B705E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25DB-BA6A-4CCF-AF52-5F9F7163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F80D-404F-4181-ADEB-BDB7672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8545-73D9-49AE-8E49-6FE910F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0AA8F-9C84-42B6-B9FD-CE1C7FD5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ACC-FB29-4E6F-93DF-3F9BBC3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B14D-9D7B-4B6E-831B-0D6A5320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1C48-47B0-4303-9CB1-5E29F7B8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1E35-0248-4FB1-ACDF-6BFB79D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8155-077D-4241-B777-F3F1320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380D-1006-4460-BEB7-7C57D35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91ADC-02BF-4D57-A1BA-030835A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5E8C-3B75-40F0-ADE3-CF35E6D6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EA7F-0AC2-4104-9B5B-AAA8781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7037-9713-43B2-AEBD-34627C0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F3025-7A4C-412C-8A76-DA78F94F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D4C-0ED0-40D7-9512-49D263C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9CBF-7250-4412-B7CC-32E75966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23CC-CE06-4821-8827-66F98E7C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98A5-EF35-486B-BF55-E8920502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B8CB1-B726-4B36-B46A-1E33F341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B8C49-33FD-45E9-BBB4-85B9A41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4806-28AC-4166-A92C-C9A4D9C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F9F2-AC0B-4419-A75D-2EB1042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9FE0-3774-4E32-8121-1D4EB5D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54D4C-753A-4EED-8FF5-5619507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0A17-734C-4B67-AACD-1253505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618-128A-43A5-84F2-FE7C408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177DF-71EC-426D-B581-F669B4F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50D8-E4FC-44BA-9DF4-0AF45BE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67DD-DCF3-4B46-9445-7E97A01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7794-D9ED-4096-B18F-52512E0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C78D-C708-430B-BBB1-9751819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A534-BFAE-48BE-B87C-95AF9E63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889C-5785-4E07-B118-FE33858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F714-8495-4547-AA52-03682971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18C4C-5A96-429E-9855-4BF1924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A1A1-29D2-404E-B328-F0F896AE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CBE-E95A-4AA2-88B1-D53256C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C19C-C9C2-4025-A14D-02BA49F2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6E37-80B5-4AB5-9ECC-F5279DA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5F57E-583D-4E68-96B7-E3B08BD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1103F-EDE3-4A46-A8B2-2E1D66C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6A0FF-237F-4548-8D27-BC2A911B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681A-A364-4C24-907A-67AEC564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2B5BC-7E31-4BBA-A9B6-D406E8F2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F8335-7582-4495-BF70-C69314FF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4B0D3-EFD5-4939-8023-5DAB74B0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C3A43-7452-44B1-9180-69F1E17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</a:t>
            </a:r>
            <a:fld id="{5A6F3C28-2252-437C-97AA-0C88E32B842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179-D468-4DAF-9439-3EAA072B188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1BB-CAE6-4249-B2A0-642B7CAE770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1331-F8A3-4CE6-93D8-BB58BEBF35B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1CC-1FDA-4A31-8208-D897DFC5DB64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E5B-9EE8-49FC-9CB2-A13BD4170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57480" y="6071760"/>
            <a:ext cx="2895480" cy="78588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 </a:t>
            </a:r>
            <a:fld id="{E849A17A-2219-440D-A154-D48EB0E89A0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2483-9F20-4E85-8C01-47AC3B57A8E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180-04FB-4DF0-8BAB-8803D21C3EF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E13-DE63-428F-8E5E-C88F7D2E016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E0A9-0F7B-4304-9177-C756438791C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2B0-3933-435C-B2DC-8A29CD3697E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CA3-9C35-4EF9-8CC0-718BB7E3EB9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14240"/>
            <a:ext cx="7490160" cy="25704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Assurer le droit à l’eau potable et à l’assainissement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pour la moitié urbain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de la population mondial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8920" y="6286320"/>
            <a:ext cx="6535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adeGothic"/>
              </a:rPr>
              <a:t>Paris, Réseau Projection, 19 janvier 2012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08000" y="3911760"/>
            <a:ext cx="903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Gérard PA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nseiller pour l’Eau et l’Assainissement du Secrétaire Général des Nations Unies (UNSGAB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sident d’AquaFed, la fédération internationale des opérateurs privés de services d’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Variations mondiales de 2000 à fin 2008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F6FA5A6B-FFF0-46C8-B678-E01157AE089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1000080"/>
          <a:ext cx="9144000" cy="5865840"/>
        </p:xfrm>
        <a:graphic>
          <a:graphicData uri="http://schemas.openxmlformats.org/drawingml/2006/table">
            <a:tbl>
              <a:tblPr/>
              <a:tblGrid>
                <a:gridCol w="1332000"/>
                <a:gridCol w="5681520"/>
                <a:gridCol w="2130480"/>
              </a:tblGrid>
              <a:tr h="73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Population urba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747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permanent à l’eau cour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à une source “améliorée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4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723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collecte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des toilettes hygiéniques et p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des installations même frus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5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3" name="ZoneTexte 5"/>
          <p:cNvSpPr/>
          <p:nvPr/>
        </p:nvSpPr>
        <p:spPr>
          <a:xfrm rot="16200000">
            <a:off x="-575280" y="2611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ZoneTexte 6"/>
          <p:cNvSpPr/>
          <p:nvPr/>
        </p:nvSpPr>
        <p:spPr>
          <a:xfrm rot="16200000">
            <a:off x="-880920" y="5127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ZoneTexte 6"/>
          <p:cNvSpPr/>
          <p:nvPr/>
        </p:nvSpPr>
        <p:spPr>
          <a:xfrm>
            <a:off x="4155840" y="1143000"/>
            <a:ext cx="2693880" cy="520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  <a:ea typeface="Tahoma"/>
              </a:rPr>
              <a:t>(+ 510 mill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63B36458-8BB2-4D5E-9326-E93E94B043C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9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4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8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FC96B240-57BC-4647-A7B3-4ECAB38C6E8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616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1" name="Connecteur droit avec flèche 11"/>
          <p:cNvCxnSpPr/>
          <p:nvPr/>
        </p:nvCxnSpPr>
        <p:spPr>
          <a:xfrm flipV="1">
            <a:off x="6143400" y="264276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Connecteur droit avec flèche 12"/>
          <p:cNvCxnSpPr/>
          <p:nvPr/>
        </p:nvCxnSpPr>
        <p:spPr>
          <a:xfrm flipV="1">
            <a:off x="6000480" y="5714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3" name="Connecteur droit avec flèche 23"/>
          <p:cNvCxnSpPr/>
          <p:nvPr/>
        </p:nvCxnSpPr>
        <p:spPr>
          <a:xfrm flipV="1">
            <a:off x="6000480" y="3428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Connecteur droit avec flèche 24"/>
          <p:cNvCxnSpPr/>
          <p:nvPr/>
        </p:nvCxnSpPr>
        <p:spPr>
          <a:xfrm flipV="1">
            <a:off x="5929200" y="642600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5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6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9" name="ZoneTexte 26"/>
          <p:cNvSpPr/>
          <p:nvPr/>
        </p:nvSpPr>
        <p:spPr>
          <a:xfrm>
            <a:off x="5610240" y="24289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ZoneTexte 27"/>
          <p:cNvSpPr/>
          <p:nvPr/>
        </p:nvSpPr>
        <p:spPr>
          <a:xfrm>
            <a:off x="5569560" y="31431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ZoneTexte 29"/>
          <p:cNvSpPr/>
          <p:nvPr/>
        </p:nvSpPr>
        <p:spPr>
          <a:xfrm>
            <a:off x="5538600" y="54291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ZoneTexte 30"/>
          <p:cNvSpPr/>
          <p:nvPr/>
        </p:nvSpPr>
        <p:spPr>
          <a:xfrm>
            <a:off x="5665680" y="621504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+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ce réservé du contenu 2"/>
          <p:cNvSpPr/>
          <p:nvPr/>
        </p:nvSpPr>
        <p:spPr>
          <a:xfrm rot="21150600">
            <a:off x="534960" y="3668760"/>
            <a:ext cx="8215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ahoma"/>
                <a:ea typeface="Tahoma"/>
              </a:rPr>
              <a:t>Les efforts actuels ne sont pas suffisants pour assurer un accès satisfaisant à l’eau potable pour t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4FC-53AD-4C35-960B-1C72E22834D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Espace réservé du contenu 2"/>
          <p:cNvSpPr/>
          <p:nvPr/>
        </p:nvSpPr>
        <p:spPr>
          <a:xfrm>
            <a:off x="468360" y="2060640"/>
            <a:ext cx="6572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  <a:ea typeface="Tahoma"/>
              </a:rPr>
              <a:t>L’accès à l’eau régresse dans la moitié urbaine du monde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2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71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ahoma"/>
              </a:rPr>
              <a:t>La course-poursuite entre politiques publiques et urban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Espace réservé du contenu 2"/>
          <p:cNvSpPr/>
          <p:nvPr/>
        </p:nvSpPr>
        <p:spPr>
          <a:xfrm rot="21081000">
            <a:off x="44280" y="183960"/>
            <a:ext cx="251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U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ZoneTexte 7"/>
          <p:cNvSpPr/>
          <p:nvPr/>
        </p:nvSpPr>
        <p:spPr>
          <a:xfrm>
            <a:off x="237240" y="61498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66"/>
                </a:solidFill>
                <a:latin typeface="Tahoma"/>
                <a:ea typeface="Tahoma"/>
              </a:rPr>
              <a:t>1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Voir communiqué AquaFed du 7 septembre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et déclaration Ban Ki-Moon du 22 mar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3. Le nouveau Droit  de l’Hom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28800" y="142884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Dro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radeGothic"/>
                <a:ea typeface="Tahoma"/>
              </a:rPr>
              <a:t>les Eléments du 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5A90-3A7D-48CF-9AF7-F09E0E5B060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429160" y="1428840"/>
            <a:ext cx="335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Professionn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e 33"/>
          <p:cNvGrpSpPr/>
          <p:nvPr/>
        </p:nvGrpSpPr>
        <p:grpSpPr>
          <a:xfrm>
            <a:off x="285840" y="2357280"/>
            <a:ext cx="7744680" cy="500400"/>
            <a:chOff x="285840" y="2357280"/>
            <a:chExt cx="7744680" cy="500400"/>
          </a:xfrm>
        </p:grpSpPr>
        <p:sp>
          <p:nvSpPr>
            <p:cNvPr id="651" name="Rectangle à coins arrondis 10"/>
            <p:cNvSpPr/>
            <p:nvPr/>
          </p:nvSpPr>
          <p:spPr>
            <a:xfrm>
              <a:off x="285840" y="2357280"/>
              <a:ext cx="2571840" cy="5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po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Groupe 26"/>
            <p:cNvGrpSpPr/>
            <p:nvPr/>
          </p:nvGrpSpPr>
          <p:grpSpPr>
            <a:xfrm>
              <a:off x="3571560" y="2357280"/>
              <a:ext cx="4458960" cy="459720"/>
              <a:chOff x="3571560" y="2357280"/>
              <a:chExt cx="4458960" cy="459720"/>
            </a:xfrm>
          </p:grpSpPr>
          <p:sp>
            <p:nvSpPr>
              <p:cNvPr id="653" name="ZoneTexte 13"/>
              <p:cNvSpPr/>
              <p:nvPr/>
            </p:nvSpPr>
            <p:spPr>
              <a:xfrm>
                <a:off x="4972320" y="2357280"/>
                <a:ext cx="30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Norme de potabilit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lèche droite 19"/>
              <p:cNvSpPr/>
              <p:nvPr/>
            </p:nvSpPr>
            <p:spPr>
              <a:xfrm>
                <a:off x="3571560" y="25002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Groupe 34"/>
          <p:cNvGrpSpPr/>
          <p:nvPr/>
        </p:nvGrpSpPr>
        <p:grpSpPr>
          <a:xfrm>
            <a:off x="285840" y="3071880"/>
            <a:ext cx="7027920" cy="500040"/>
            <a:chOff x="285840" y="3071880"/>
            <a:chExt cx="7027920" cy="500040"/>
          </a:xfrm>
        </p:grpSpPr>
        <p:sp>
          <p:nvSpPr>
            <p:cNvPr id="656" name="Rectangle à coins arrondis 6"/>
            <p:cNvSpPr/>
            <p:nvPr/>
          </p:nvSpPr>
          <p:spPr>
            <a:xfrm>
              <a:off x="285840" y="3071880"/>
              <a:ext cx="278604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p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Groupe 27"/>
            <p:cNvGrpSpPr/>
            <p:nvPr/>
          </p:nvGrpSpPr>
          <p:grpSpPr>
            <a:xfrm>
              <a:off x="3571560" y="3071880"/>
              <a:ext cx="3742200" cy="459720"/>
              <a:chOff x="3571560" y="3071880"/>
              <a:chExt cx="3742200" cy="459720"/>
            </a:xfrm>
          </p:grpSpPr>
          <p:sp>
            <p:nvSpPr>
              <p:cNvPr id="658" name="ZoneTexte 14"/>
              <p:cNvSpPr/>
              <p:nvPr/>
            </p:nvSpPr>
            <p:spPr>
              <a:xfrm>
                <a:off x="4979520" y="3071880"/>
                <a:ext cx="233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Couleur, odeu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lèche droite 21"/>
              <p:cNvSpPr/>
              <p:nvPr/>
            </p:nvSpPr>
            <p:spPr>
              <a:xfrm>
                <a:off x="3571560" y="32148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Groupe 35"/>
          <p:cNvGrpSpPr/>
          <p:nvPr/>
        </p:nvGrpSpPr>
        <p:grpSpPr>
          <a:xfrm>
            <a:off x="285840" y="3786120"/>
            <a:ext cx="8564040" cy="500040"/>
            <a:chOff x="285840" y="3786120"/>
            <a:chExt cx="8564040" cy="500040"/>
          </a:xfrm>
        </p:grpSpPr>
        <p:sp>
          <p:nvSpPr>
            <p:cNvPr id="661" name="Rectangle à coins arrondis 9"/>
            <p:cNvSpPr/>
            <p:nvPr/>
          </p:nvSpPr>
          <p:spPr>
            <a:xfrm>
              <a:off x="285840" y="3786120"/>
              <a:ext cx="357192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ssible, disponi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Groupe 28"/>
            <p:cNvGrpSpPr/>
            <p:nvPr/>
          </p:nvGrpSpPr>
          <p:grpSpPr>
            <a:xfrm>
              <a:off x="4072320" y="3786120"/>
              <a:ext cx="4777560" cy="459720"/>
              <a:chOff x="4072320" y="3786120"/>
              <a:chExt cx="4777560" cy="459720"/>
            </a:xfrm>
          </p:grpSpPr>
          <p:sp>
            <p:nvSpPr>
              <p:cNvPr id="663" name="ZoneTexte 18"/>
              <p:cNvSpPr/>
              <p:nvPr/>
            </p:nvSpPr>
            <p:spPr>
              <a:xfrm>
                <a:off x="4991760" y="3786120"/>
                <a:ext cx="385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24/7, distance point d’ea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lèche droite 22"/>
              <p:cNvSpPr/>
              <p:nvPr/>
            </p:nvSpPr>
            <p:spPr>
              <a:xfrm>
                <a:off x="4072320" y="3929040"/>
                <a:ext cx="928440" cy="214560"/>
              </a:xfrm>
              <a:prstGeom prst="rightArrow">
                <a:avLst>
                  <a:gd name="adj1" fmla="val 50000"/>
                  <a:gd name="adj2" fmla="val 4992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e 36"/>
          <p:cNvGrpSpPr/>
          <p:nvPr/>
        </p:nvGrpSpPr>
        <p:grpSpPr>
          <a:xfrm>
            <a:off x="285840" y="4500720"/>
            <a:ext cx="7414200" cy="531000"/>
            <a:chOff x="285840" y="4500720"/>
            <a:chExt cx="7414200" cy="531000"/>
          </a:xfrm>
        </p:grpSpPr>
        <p:sp>
          <p:nvSpPr>
            <p:cNvPr id="666" name="Rectangle à coins arrondis 7"/>
            <p:cNvSpPr/>
            <p:nvPr/>
          </p:nvSpPr>
          <p:spPr>
            <a:xfrm>
              <a:off x="285840" y="450072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d’un coût abord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Groupe 29"/>
            <p:cNvGrpSpPr/>
            <p:nvPr/>
          </p:nvGrpSpPr>
          <p:grpSpPr>
            <a:xfrm>
              <a:off x="4071960" y="4572000"/>
              <a:ext cx="3628080" cy="459720"/>
              <a:chOff x="4071960" y="4572000"/>
              <a:chExt cx="3628080" cy="459720"/>
            </a:xfrm>
          </p:grpSpPr>
          <p:sp>
            <p:nvSpPr>
              <p:cNvPr id="668" name="ZoneTexte 15"/>
              <p:cNvSpPr/>
              <p:nvPr/>
            </p:nvSpPr>
            <p:spPr>
              <a:xfrm>
                <a:off x="4993920" y="4572000"/>
                <a:ext cx="270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Tarification, aid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lèche droite 23"/>
              <p:cNvSpPr/>
              <p:nvPr/>
            </p:nvSpPr>
            <p:spPr>
              <a:xfrm>
                <a:off x="4071960" y="46432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0" name="Groupe 37"/>
          <p:cNvGrpSpPr/>
          <p:nvPr/>
        </p:nvGrpSpPr>
        <p:grpSpPr>
          <a:xfrm>
            <a:off x="285840" y="5214960"/>
            <a:ext cx="8179560" cy="500040"/>
            <a:chOff x="285840" y="5214960"/>
            <a:chExt cx="8179560" cy="500040"/>
          </a:xfrm>
        </p:grpSpPr>
        <p:sp>
          <p:nvSpPr>
            <p:cNvPr id="671" name="Rectangle à coins arrondis 11"/>
            <p:cNvSpPr/>
            <p:nvPr/>
          </p:nvSpPr>
          <p:spPr>
            <a:xfrm>
              <a:off x="285840" y="521496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en quantité suffisa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Groupe 30"/>
            <p:cNvGrpSpPr/>
            <p:nvPr/>
          </p:nvGrpSpPr>
          <p:grpSpPr>
            <a:xfrm>
              <a:off x="4071960" y="5214960"/>
              <a:ext cx="4393440" cy="459720"/>
              <a:chOff x="4071960" y="5214960"/>
              <a:chExt cx="4393440" cy="459720"/>
            </a:xfrm>
          </p:grpSpPr>
          <p:sp>
            <p:nvSpPr>
              <p:cNvPr id="673" name="ZoneTexte 16"/>
              <p:cNvSpPr/>
              <p:nvPr/>
            </p:nvSpPr>
            <p:spPr>
              <a:xfrm>
                <a:off x="5047560" y="5214960"/>
                <a:ext cx="34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Pression minimale, e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lèche droite 24"/>
              <p:cNvSpPr/>
              <p:nvPr/>
            </p:nvSpPr>
            <p:spPr>
              <a:xfrm>
                <a:off x="4071960" y="53578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e 38"/>
          <p:cNvGrpSpPr/>
          <p:nvPr/>
        </p:nvGrpSpPr>
        <p:grpSpPr>
          <a:xfrm>
            <a:off x="285840" y="5857920"/>
            <a:ext cx="7435800" cy="825480"/>
            <a:chOff x="285840" y="5857920"/>
            <a:chExt cx="7435800" cy="825480"/>
          </a:xfrm>
        </p:grpSpPr>
        <p:sp>
          <p:nvSpPr>
            <p:cNvPr id="676" name="Rectangle à coins arrondis 4"/>
            <p:cNvSpPr/>
            <p:nvPr/>
          </p:nvSpPr>
          <p:spPr>
            <a:xfrm>
              <a:off x="285840" y="5929200"/>
              <a:ext cx="350028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sans discr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Groupe 31"/>
            <p:cNvGrpSpPr/>
            <p:nvPr/>
          </p:nvGrpSpPr>
          <p:grpSpPr>
            <a:xfrm>
              <a:off x="4072320" y="5857920"/>
              <a:ext cx="3649320" cy="825480"/>
              <a:chOff x="4072320" y="5857920"/>
              <a:chExt cx="3649320" cy="825480"/>
            </a:xfrm>
          </p:grpSpPr>
          <p:sp>
            <p:nvSpPr>
              <p:cNvPr id="678" name="ZoneTexte 17"/>
              <p:cNvSpPr/>
              <p:nvPr/>
            </p:nvSpPr>
            <p:spPr>
              <a:xfrm>
                <a:off x="5099400" y="5857920"/>
                <a:ext cx="26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Égalité devant l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service publ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lèche droite 25"/>
              <p:cNvSpPr/>
              <p:nvPr/>
            </p:nvSpPr>
            <p:spPr>
              <a:xfrm>
                <a:off x="4072320" y="6071760"/>
                <a:ext cx="1000080" cy="213840"/>
              </a:xfrm>
              <a:prstGeom prst="rightArrow">
                <a:avLst>
                  <a:gd name="adj1" fmla="val 50000"/>
                  <a:gd name="adj2" fmla="val 50102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Double flèche horizontale 32"/>
          <p:cNvSpPr/>
          <p:nvPr/>
        </p:nvSpPr>
        <p:spPr>
          <a:xfrm>
            <a:off x="3000240" y="1571760"/>
            <a:ext cx="2214720" cy="35712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Coûts abordables: attention au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effets des 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D7A-9A53-4FC7-8194-BA063B040E6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e 9"/>
          <p:cNvGrpSpPr/>
          <p:nvPr/>
        </p:nvGrpSpPr>
        <p:grpSpPr>
          <a:xfrm>
            <a:off x="500040" y="3143160"/>
            <a:ext cx="8143920" cy="2428920"/>
            <a:chOff x="500040" y="3143160"/>
            <a:chExt cx="8143920" cy="2428920"/>
          </a:xfrm>
        </p:grpSpPr>
        <p:sp>
          <p:nvSpPr>
            <p:cNvPr id="684" name="Rectangle à coins arrondis 4"/>
            <p:cNvSpPr/>
            <p:nvPr/>
          </p:nvSpPr>
          <p:spPr>
            <a:xfrm>
              <a:off x="500040" y="3143160"/>
              <a:ext cx="314316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à coins arrondis 6"/>
            <p:cNvSpPr/>
            <p:nvPr/>
          </p:nvSpPr>
          <p:spPr>
            <a:xfrm>
              <a:off x="5429160" y="3143160"/>
              <a:ext cx="321480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Non 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Double flèche horizontale 7"/>
            <p:cNvSpPr/>
            <p:nvPr/>
          </p:nvSpPr>
          <p:spPr>
            <a:xfrm>
              <a:off x="3786120" y="4214880"/>
              <a:ext cx="1500120" cy="714240"/>
            </a:xfrm>
            <a:prstGeom prst="leftRightArrow">
              <a:avLst>
                <a:gd name="adj1" fmla="val 50000"/>
                <a:gd name="adj2" fmla="val 5000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ZoneTexte 8"/>
          <p:cNvSpPr/>
          <p:nvPr/>
        </p:nvSpPr>
        <p:spPr>
          <a:xfrm>
            <a:off x="556920" y="185724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lèche vers le bas 10"/>
          <p:cNvSpPr/>
          <p:nvPr/>
        </p:nvSpPr>
        <p:spPr>
          <a:xfrm>
            <a:off x="1500120" y="2571840"/>
            <a:ext cx="100008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ZoneTexte 11"/>
          <p:cNvSpPr/>
          <p:nvPr/>
        </p:nvSpPr>
        <p:spPr>
          <a:xfrm>
            <a:off x="5674680" y="5657760"/>
            <a:ext cx="28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oût 10 fo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plus élev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Espace réservé du numéro de diapositive 5"/>
          <p:cNvSpPr/>
          <p:nvPr/>
        </p:nvSpPr>
        <p:spPr>
          <a:xfrm>
            <a:off x="8429760" y="6400800"/>
            <a:ext cx="71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674-C20E-4F19-89DC-81D3C8B2F8F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TradeGothic"/>
              </a:rPr>
              <a:t>Coût abordable: </a:t>
            </a:r>
            <a:br>
              <a:rPr sz="4000"/>
            </a:b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bien vérifier l’impact des subventions pour les plus pauvre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3929040" y="3143160"/>
            <a:ext cx="47624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mécanismes non ciblés comme les tranches tarifaires croissantes peuvent bénéficier davantage aux riches qu’aux pauv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e 15"/>
          <p:cNvGrpSpPr/>
          <p:nvPr/>
        </p:nvGrpSpPr>
        <p:grpSpPr>
          <a:xfrm>
            <a:off x="0" y="0"/>
            <a:ext cx="3527280" cy="6883560"/>
            <a:chOff x="0" y="0"/>
            <a:chExt cx="3527280" cy="6883560"/>
          </a:xfrm>
        </p:grpSpPr>
        <p:grpSp>
          <p:nvGrpSpPr>
            <p:cNvPr id="694" name="Groupe 14"/>
            <p:cNvGrpSpPr/>
            <p:nvPr/>
          </p:nvGrpSpPr>
          <p:grpSpPr>
            <a:xfrm>
              <a:off x="0" y="0"/>
              <a:ext cx="3527280" cy="6883560"/>
              <a:chOff x="0" y="0"/>
              <a:chExt cx="3527280" cy="6883560"/>
            </a:xfrm>
          </p:grpSpPr>
          <p:pic>
            <p:nvPicPr>
              <p:cNvPr id="6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27280" cy="688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480" y="3286080"/>
                <a:ext cx="2866680" cy="23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" y="1143000"/>
                <a:ext cx="2841480" cy="23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600" y="0"/>
                <a:ext cx="2858400" cy="14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9" name="Picture 9" descr=""/>
            <p:cNvPicPr/>
            <p:nvPr/>
          </p:nvPicPr>
          <p:blipFill>
            <a:blip r:embed="rId5"/>
            <a:stretch/>
          </p:blipFill>
          <p:spPr>
            <a:xfrm>
              <a:off x="642600" y="5643720"/>
              <a:ext cx="25524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10" descr=""/>
            <p:cNvPicPr/>
            <p:nvPr/>
          </p:nvPicPr>
          <p:blipFill>
            <a:blip r:embed="rId6"/>
            <a:stretch/>
          </p:blipFill>
          <p:spPr>
            <a:xfrm>
              <a:off x="108000" y="6678360"/>
              <a:ext cx="1603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e 8"/>
          <p:cNvGrpSpPr/>
          <p:nvPr/>
        </p:nvGrpSpPr>
        <p:grpSpPr>
          <a:xfrm>
            <a:off x="2142360" y="1285200"/>
            <a:ext cx="1715040" cy="2143440"/>
            <a:chOff x="2142360" y="1285200"/>
            <a:chExt cx="1715040" cy="2143440"/>
          </a:xfrm>
        </p:grpSpPr>
        <p:cxnSp>
          <p:nvCxnSpPr>
            <p:cNvPr id="702" name="Connecteur droit avec flèche 7"/>
            <p:cNvCxnSpPr/>
            <p:nvPr/>
          </p:nvCxnSpPr>
          <p:spPr>
            <a:xfrm flipH="1" flipV="1">
              <a:off x="2856960" y="1285200"/>
              <a:ext cx="1000800" cy="214380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703" name="Connecteur droit avec flèche 8"/>
            <p:cNvCxnSpPr/>
            <p:nvPr/>
          </p:nvCxnSpPr>
          <p:spPr>
            <a:xfrm flipH="1" flipV="1">
              <a:off x="2142360" y="1713960"/>
              <a:ext cx="1715400" cy="164376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704" name="Rectangle 4"/>
          <p:cNvSpPr/>
          <p:nvPr/>
        </p:nvSpPr>
        <p:spPr>
          <a:xfrm>
            <a:off x="3500280" y="621504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ource: UN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velopment Report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Freins juridiques / poli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 </a:t>
            </a: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au raccordement des bidonvil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468A-36BE-4821-9DBE-34149B64902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à coins arrondis 4"/>
          <p:cNvSpPr/>
          <p:nvPr/>
        </p:nvSpPr>
        <p:spPr>
          <a:xfrm>
            <a:off x="857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à coins arrondis 6"/>
          <p:cNvSpPr/>
          <p:nvPr/>
        </p:nvSpPr>
        <p:spPr>
          <a:xfrm>
            <a:off x="5429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de proprié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Double flèche horizontale 7"/>
          <p:cNvSpPr/>
          <p:nvPr/>
        </p:nvSpPr>
        <p:spPr>
          <a:xfrm>
            <a:off x="3786120" y="4071960"/>
            <a:ext cx="1500120" cy="7142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97A2-BB71-42F0-879A-DB851B901A0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3571920" y="15840"/>
            <a:ext cx="5572080" cy="6842160"/>
          </a:xfrm>
          <a:prstGeom prst="rect">
            <a:avLst/>
          </a:prstGeom>
          <a:ln w="0">
            <a:noFill/>
          </a:ln>
        </p:spPr>
      </p:pic>
      <p:sp>
        <p:nvSpPr>
          <p:cNvPr id="712" name="ZoneTexte 6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ahoma"/>
                <a:ea typeface="Tahoma"/>
              </a:rPr>
              <a:t>4. Vers des politiques plus ambitie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49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BE6-4FA7-4294-95E9-EBB6FD1405B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  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Conseil consultatif pour l’Eau et l’Assainissement </a:t>
            </a:r>
            <a:br>
              <a:rPr sz="2800"/>
            </a:b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   du Secrétaire général des Nations Unies</a:t>
            </a:r>
            <a:br>
              <a:rPr sz="2800"/>
            </a:b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       “</a:t>
            </a:r>
            <a:r>
              <a:rPr b="1" lang="fr-FR" sz="3200" spc="-1" strike="noStrike">
                <a:solidFill>
                  <a:srgbClr val="0033cc"/>
                </a:solidFill>
                <a:latin typeface="TradeGothic"/>
              </a:rPr>
              <a:t>UNSGAB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”</a:t>
            </a:r>
            <a:endParaRPr b="0" lang="en-US" sz="32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2428920"/>
            <a:ext cx="8136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Conseil indépendant de haut niveau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ahoma"/>
                <a:ea typeface="Tahoma"/>
              </a:rPr>
              <a:t>Créé par Kofi Annan le 22 mars 2004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pour stimuler l’action des décideurs politiques en matière d’accès à l’eau potable et à l’assainissement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22 membres en provenance de tous les continents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203640" y="6308640"/>
            <a:ext cx="30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www.unsgab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UN logo blue"/>
          <p:cNvPicPr/>
          <p:nvPr/>
        </p:nvPicPr>
        <p:blipFill>
          <a:blip r:embed="rId1"/>
          <a:stretch/>
        </p:blipFill>
        <p:spPr>
          <a:xfrm>
            <a:off x="214200" y="714240"/>
            <a:ext cx="11606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Quels objectifs mondiaux?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sources amélioré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 ?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toilettes privativ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:  toilettes + eaux usées?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6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FD4-4DD4-4130-9204-C7C19D085A5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10920" y="1413000"/>
            <a:ext cx="784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la moitié de la population mondiale utilise une eau de qualité douteuse.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Davantage de personnes ont leur droit à l’eau potable non satisfai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9" name="Rectangle 1"/>
          <p:cNvSpPr/>
          <p:nvPr/>
        </p:nvSpPr>
        <p:spPr>
          <a:xfrm>
            <a:off x="395280" y="602352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Source: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Les besoins en eau potable dans le monde sont sous-estimés :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des milliards de personnes sont concernées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Gérard Payen, 2011 in 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Le Droit à l’eau potable et à l’assainissement, sa mise en œuvre en Europe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adeGothic"/>
              </a:rPr>
              <a:t>www.aquafed.org/pop_up_4billion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Le nombre de personnes n’ayant pas accès à des toilettes privatives correctes ne baisse pas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80% des eaux usées par l’homme sont rejetées dans la nature sans dépollution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2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715-A3E7-4CB2-95BE-3FD3FDA80F2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4F2-27C4-4C2E-A61F-D91C4746FFC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0" y="2406600"/>
            <a:ext cx="5931000" cy="4451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2"/>
          <a:stretch/>
        </p:blipFill>
        <p:spPr>
          <a:xfrm rot="20911800">
            <a:off x="4834080" y="610920"/>
            <a:ext cx="3886200" cy="591984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3"/>
          <p:cNvSpPr/>
          <p:nvPr/>
        </p:nvSpPr>
        <p:spPr>
          <a:xfrm>
            <a:off x="755640" y="5493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Merci pour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A9E1-D0D9-4F7F-A51A-034479BE8C6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ZoneTexte 3"/>
          <p:cNvSpPr/>
          <p:nvPr/>
        </p:nvSpPr>
        <p:spPr>
          <a:xfrm>
            <a:off x="2050920" y="2349360"/>
            <a:ext cx="48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unsgab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aquafed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132000" y="551664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radeGothic"/>
              </a:rPr>
              <a:t>Ban Ki-Moon, 22 mars 2011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6C84-BB06-4D28-94C4-A86925A4923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ZoneTexte 4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    </a:t>
            </a: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« L’Eau pour les Villes 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Thème de la Journée mondiale de l’Eau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à coins arrondis 7"/>
          <p:cNvSpPr/>
          <p:nvPr/>
        </p:nvSpPr>
        <p:spPr>
          <a:xfrm>
            <a:off x="611280" y="2060640"/>
            <a:ext cx="7848360" cy="33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« La crise de l’eau qui touche 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zones urbaines tient da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des problèmes de gouvernan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’insuffisance des politiques 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a mauvaise ges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qu’à des problèmes de pénurie.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Le Droit à l’eau pour les citadin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5640" y="256500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ynamiques urbain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éveloppement de l’accès à l’eau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Le nouveau Droit de l’Homme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Vers des politiques plus ambitieus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ABC-30EB-4552-930E-B891FB07BAB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à coins arrondis 4"/>
          <p:cNvSpPr/>
          <p:nvPr/>
        </p:nvSpPr>
        <p:spPr>
          <a:xfrm>
            <a:off x="250920" y="2565360"/>
            <a:ext cx="82818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1.  Dynamiques urba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7152-7707-4939-B9D4-5B0836FA896B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5459400" y="1800360"/>
            <a:ext cx="3684600" cy="5057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0" y="773280"/>
            <a:ext cx="5483160" cy="60847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à coins arrondis 5"/>
          <p:cNvSpPr/>
          <p:nvPr/>
        </p:nvSpPr>
        <p:spPr>
          <a:xfrm>
            <a:off x="0" y="0"/>
            <a:ext cx="9144000" cy="18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ans les pays en développ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ahoma"/>
                <a:ea typeface="Tahoma"/>
              </a:rPr>
              <a:t>33% 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es citadins habitent des bidon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ZoneTexte 11"/>
          <p:cNvSpPr/>
          <p:nvPr/>
        </p:nvSpPr>
        <p:spPr>
          <a:xfrm>
            <a:off x="122760" y="61437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e 8"/>
          <p:cNvGrpSpPr/>
          <p:nvPr/>
        </p:nvGrpSpPr>
        <p:grpSpPr>
          <a:xfrm>
            <a:off x="1619280" y="1197000"/>
            <a:ext cx="6854400" cy="581400"/>
            <a:chOff x="1619280" y="1197000"/>
            <a:chExt cx="6854400" cy="581400"/>
          </a:xfrm>
        </p:grpSpPr>
        <p:sp>
          <p:nvSpPr>
            <p:cNvPr id="561" name="Flèche droite 6"/>
            <p:cNvSpPr/>
            <p:nvPr/>
          </p:nvSpPr>
          <p:spPr>
            <a:xfrm>
              <a:off x="1619280" y="1340640"/>
              <a:ext cx="1728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ZoneTexte 7"/>
            <p:cNvSpPr/>
            <p:nvPr/>
          </p:nvSpPr>
          <p:spPr>
            <a:xfrm>
              <a:off x="3285000" y="1197000"/>
              <a:ext cx="51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6600"/>
                  </a:solidFill>
                  <a:latin typeface="TradeGothic"/>
                </a:rPr>
                <a:t>Leur nombre est croissa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64480"/>
          </a:xfrm>
          <a:prstGeom prst="rect">
            <a:avLst/>
          </a:prstGeom>
          <a:ln w="0">
            <a:noFill/>
          </a:ln>
        </p:spPr>
      </p:pic>
      <p:sp>
        <p:nvSpPr>
          <p:cNvPr id="564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61D-229A-46F4-B8CF-35B54706438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Groupe 8" descr=""/>
          <p:cNvPicPr/>
          <p:nvPr/>
        </p:nvPicPr>
        <p:blipFill>
          <a:blip r:embed="rId2"/>
          <a:stretch/>
        </p:blipFill>
        <p:spPr>
          <a:xfrm>
            <a:off x="738360" y="1036800"/>
            <a:ext cx="5394240" cy="2035080"/>
          </a:xfrm>
          <a:prstGeom prst="rect">
            <a:avLst/>
          </a:prstGeom>
          <a:ln w="0">
            <a:noFill/>
          </a:ln>
        </p:spPr>
      </p:pic>
      <p:sp>
        <p:nvSpPr>
          <p:cNvPr id="566" name="ZoneTexte 11"/>
          <p:cNvSpPr/>
          <p:nvPr/>
        </p:nvSpPr>
        <p:spPr>
          <a:xfrm>
            <a:off x="-500760" y="614376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2BE-8DBF-448B-AFA8-6154A7DBCE8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C:\Documents and Settings\gpayen\Mes documents\Mes images\AqF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6"/>
          <p:cNvSpPr/>
          <p:nvPr/>
        </p:nvSpPr>
        <p:spPr>
          <a:xfrm>
            <a:off x="714240" y="1571760"/>
            <a:ext cx="557244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Prévisions de pop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World Urbanization Prospects, the 2009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O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00040" y="0"/>
            <a:ext cx="1214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mill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Ellipse 9"/>
          <p:cNvSpPr/>
          <p:nvPr/>
        </p:nvSpPr>
        <p:spPr>
          <a:xfrm rot="19086000">
            <a:off x="4917960" y="1495080"/>
            <a:ext cx="4846680" cy="96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3" descr=""/>
          <p:cNvPicPr/>
          <p:nvPr/>
        </p:nvPicPr>
        <p:blipFill>
          <a:blip r:embed="rId1"/>
          <a:stretch/>
        </p:blipFill>
        <p:spPr>
          <a:xfrm>
            <a:off x="0" y="-58680"/>
            <a:ext cx="9229680" cy="6916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e 13"/>
          <p:cNvGrpSpPr/>
          <p:nvPr/>
        </p:nvGrpSpPr>
        <p:grpSpPr>
          <a:xfrm>
            <a:off x="468360" y="1556640"/>
            <a:ext cx="4032360" cy="4320000"/>
            <a:chOff x="468360" y="1556640"/>
            <a:chExt cx="4032360" cy="4320000"/>
          </a:xfrm>
        </p:grpSpPr>
        <p:sp>
          <p:nvSpPr>
            <p:cNvPr id="574" name="Rectangle à coins arrondis 2"/>
            <p:cNvSpPr/>
            <p:nvPr/>
          </p:nvSpPr>
          <p:spPr>
            <a:xfrm>
              <a:off x="468360" y="3141000"/>
              <a:ext cx="2880360" cy="1080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éveloppement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ifi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5" name="Connecteur droit avec flèche 5"/>
            <p:cNvCxnSpPr/>
            <p:nvPr/>
          </p:nvCxnSpPr>
          <p:spPr>
            <a:xfrm flipH="1" flipV="1">
              <a:off x="972360" y="1556640"/>
              <a:ext cx="504360" cy="1584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cxnSp>
          <p:nvCxnSpPr>
            <p:cNvPr id="576" name="Connecteur droit avec flèche 6"/>
            <p:cNvCxnSpPr/>
            <p:nvPr/>
          </p:nvCxnSpPr>
          <p:spPr>
            <a:xfrm>
              <a:off x="2196000" y="4220640"/>
              <a:ext cx="2305080" cy="1656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</p:grpSp>
      <p:grpSp>
        <p:nvGrpSpPr>
          <p:cNvPr id="577" name="Groupe 16"/>
          <p:cNvGrpSpPr/>
          <p:nvPr/>
        </p:nvGrpSpPr>
        <p:grpSpPr>
          <a:xfrm>
            <a:off x="4066920" y="1413000"/>
            <a:ext cx="4321440" cy="3095640"/>
            <a:chOff x="4066920" y="1413000"/>
            <a:chExt cx="4321440" cy="3095640"/>
          </a:xfrm>
        </p:grpSpPr>
        <p:grpSp>
          <p:nvGrpSpPr>
            <p:cNvPr id="578" name="Groupe 15"/>
            <p:cNvGrpSpPr/>
            <p:nvPr/>
          </p:nvGrpSpPr>
          <p:grpSpPr>
            <a:xfrm>
              <a:off x="5434920" y="1413000"/>
              <a:ext cx="2953440" cy="3095640"/>
              <a:chOff x="5434920" y="1413000"/>
              <a:chExt cx="2953440" cy="3095640"/>
            </a:xfrm>
          </p:grpSpPr>
          <p:sp>
            <p:nvSpPr>
              <p:cNvPr id="579" name="Rectangle à coins arrondis 3"/>
              <p:cNvSpPr/>
              <p:nvPr/>
            </p:nvSpPr>
            <p:spPr>
              <a:xfrm>
                <a:off x="5434920" y="1413000"/>
                <a:ext cx="288216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5c5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éveloppement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non planifié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80" name="Connecteur droit avec flèche 9"/>
              <p:cNvCxnSpPr/>
              <p:nvPr/>
            </p:nvCxnSpPr>
            <p:spPr>
              <a:xfrm>
                <a:off x="6659280" y="2491920"/>
                <a:ext cx="1153440" cy="2017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  <p:cxnSp>
            <p:nvCxnSpPr>
              <p:cNvPr id="581" name="Connecteur droit avec flèche 11"/>
              <p:cNvCxnSpPr/>
              <p:nvPr/>
            </p:nvCxnSpPr>
            <p:spPr>
              <a:xfrm>
                <a:off x="6947640" y="2491920"/>
                <a:ext cx="1441080" cy="361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</p:grpSp>
        <p:cxnSp>
          <p:nvCxnSpPr>
            <p:cNvPr id="582" name="Connecteur droit avec flèche 12"/>
            <p:cNvCxnSpPr/>
            <p:nvPr/>
          </p:nvCxnSpPr>
          <p:spPr>
            <a:xfrm flipH="1">
              <a:off x="4066920" y="2492280"/>
              <a:ext cx="2305440" cy="1874160"/>
            </a:xfrm>
            <a:prstGeom prst="straightConnector1">
              <a:avLst/>
            </a:prstGeom>
            <a:ln w="38160">
              <a:solidFill>
                <a:srgbClr val="0a0aff"/>
              </a:solidFill>
              <a:miter/>
              <a:tailEnd len="med" type="arrow" w="med"/>
            </a:ln>
          </p:spPr>
        </p:cxnSp>
      </p:grpSp>
      <p:sp>
        <p:nvSpPr>
          <p:cNvPr id="583" name="Espace réservé du numéro de diapositive 3"/>
          <p:cNvSpPr/>
          <p:nvPr/>
        </p:nvSpPr>
        <p:spPr>
          <a:xfrm>
            <a:off x="179280" y="6237360"/>
            <a:ext cx="1438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G.Payen    </a:t>
            </a:r>
            <a:fld id="{0B494C2A-FF45-4392-A447-1839EC641B96}" type="slidenum"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8C8-255E-4A1D-B78F-C0840F0BED2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"/>
          <p:cNvSpPr/>
          <p:nvPr/>
        </p:nvSpPr>
        <p:spPr>
          <a:xfrm>
            <a:off x="32767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928800"/>
            <a:ext cx="7905600" cy="5929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-1440" y="6461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urce: G.Pay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2. Développement de l’Accès </a:t>
            </a:r>
            <a:br>
              <a:rPr sz="4000"/>
            </a:b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 à l’eau potable et à l’assainissemen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89" name="Espace réservé du numéro de diapositive 5"/>
          <p:cNvSpPr/>
          <p:nvPr/>
        </p:nvSpPr>
        <p:spPr>
          <a:xfrm>
            <a:off x="8386920" y="649296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A10F-5518-4A2A-B3CA-E259D468EE31}" type="slidenum">
              <a:rPr b="0" lang="fr-FR" sz="1400" spc="-1" strike="noStrike">
                <a:solidFill>
                  <a:srgbClr val="0000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3:37:23Z</dcterms:created>
  <dc:creator>Payen</dc:creator>
  <dc:description/>
  <cp:keywords>Urban challenges défis urbains urgence urbaine Aquafed UNSGAB ban ki-moon</cp:keywords>
  <dc:language>en-US</dc:language>
  <cp:lastModifiedBy>gerard payen</cp:lastModifiedBy>
  <dcterms:modified xsi:type="dcterms:W3CDTF">2012-01-18T19:19:17Z</dcterms:modified>
  <cp:revision>549</cp:revision>
  <dc:subject/>
  <dc:title>Droit à l'eau en ville</dc:title>
</cp:coreProperties>
</file>